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447-C00B-4790-9BEA-F943EEBE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F18-1DA0-43C7-AFE0-5E2DD69E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82A9D-4D92-4650-8F51-864C3BD7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EC4EB-1D86-46DB-A517-E57AA373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882BA-C947-42EC-A8E5-12AB60E1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3BFE6-5F6E-494E-BCBD-5CD1B8B5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1D5FD-D307-4651-A1B7-663D6608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22942-2369-4CC3-8760-E37DE38C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534FA-CB8C-41F8-8FB7-5170661B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E419B-4A95-40B7-BDDF-13A5F28D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0F2AF-845F-470F-857A-53CDAD58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82D-C97B-49FA-8BA3-6DDB2055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3C8-6168-42DF-AE82-B9895A23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CEB0-44B3-4D8C-B1B0-883683B3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424B-B3C8-4A77-A508-2936A1FD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6A38-45AA-4B24-9D33-0FA93113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1CFE-B64E-49CA-8CF3-38FB4C34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4585-3817-4A68-9714-5ACD897B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E6EE-1FB1-40A2-819E-D748E728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B5A9-A862-4A23-AC7B-7AC3C1E5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1BF-071E-4428-9F2B-0934DFEF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68E1-729C-40F7-BBD3-56F52E36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1939-07DD-4A30-97FB-91AD1185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8C15-02C7-4DD2-BD59-1C0CDE22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042F-9EBE-48E5-A0BC-7C07CB47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9925-EA9B-49DC-9F1D-4E6E7457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378D5-7CAA-4A0C-994D-FD07705D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656D7-3436-45BA-A2CC-75F1A2A4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35C00-A8B9-4DCA-B588-7C4485B8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7C5CE-BF16-4315-8FD0-6AC3E6BA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54A1E-D205-40FB-BAFC-CF4D8B80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483-2102-4417-9A16-E2160E37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E3A01-1B09-49A2-966B-1D55E7CA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D7806-42E3-4830-BA59-96A3D66F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6C898-785B-4074-BC50-BDEA630C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26E44-76B3-46AA-8055-584F1CCB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FBB04-4413-4790-B4D0-66387EBC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28BC7-7691-4183-A753-768B419A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809B1-C622-490D-9667-1644800B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ABDBA-3F56-4ECD-8934-FEA5D14D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5E1027-58C9-4CC6-8A0B-6B2E795A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B4221E-5C21-4B26-A05F-4868772D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3016-98B2-473E-ADFE-61D956E3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37DB3D-5AF7-48EE-BCA0-79C0D5C3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FBC32D-71B8-4084-873A-08A8D684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955B33-3D1E-4EF2-9615-2698BE8A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0C44A9-3417-4E6A-A428-A76F7C01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E9B4B4-A33E-4D03-89B8-08D61B52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01DAA8-A3DD-4EA6-9FB3-C6477F3D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67FA1B-70D4-4306-A139-089CE45F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D57EA-F1F4-4D70-967F-F965F544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65AE2E-E1FB-436B-B16E-0CCCCF97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31B60B-591D-4A37-B1AF-15870F8E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47C-3943-4B7F-BE66-EFD9BEB6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36464-16DE-4F32-ABB1-EABA55A3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C410A-A1B3-4F54-85F2-EE8D2685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5B51AC-4D7C-4B2D-82DD-619ACA0D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35FD5C-AD44-469B-8B41-FA138A74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CA2F6-B26C-474D-AB66-A640C26F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FF13F-3A22-4A23-8FC2-6B289E6D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FE30AB-DB62-4643-8768-E9174D8E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4D3A1A-E591-42B6-910C-1566D691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7DD40-9C5C-49F3-9CD5-9161A6F1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3109D-E324-4651-92E2-A9DE596F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401-D11F-4041-B92E-C397E5FA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EA4CB-FF90-4570-8EB2-9E4A2082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78639-5F45-4816-BBF5-B291ADA1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8CC7E-4510-4CB0-B8E5-2291E995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424D9-A297-40DB-A9CC-D412C09C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2D361-A13A-408C-A4B5-123BE925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A6677-D404-4044-B0AD-270DE241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CE4E0-A576-4D3D-A71E-C2C548E2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D49C9-04A1-41E3-935B-A03950FA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B582E-3317-4D3A-95B0-F409914F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B0B4C-127C-4B53-AE40-0E42F8F5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3848-7049-45C5-8DED-27D24FF7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A33A8-B74F-4B20-A625-5E60A590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B8773-5DE1-4AB5-9351-833056EF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29AF9-5966-4032-8479-9BBBEE8C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D40C8A-DA3D-454C-A7AB-9368C5E6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96240B-C02C-4F6C-9589-54618C9E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88CFD1-588A-4795-959F-65001BE9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F61864-1760-4915-977B-678FC8CA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DF4C56-7148-4EA1-A88C-C23B2BA3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E602E2-58B8-4FB9-8D08-98996099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5921C-EA57-4615-B8FC-2176CFB6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C36-D053-459A-A566-52835C12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03A7BC-F98F-4ED4-8456-A923D37C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18FB05-CB5E-419F-AEF4-ADCE750D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A5A6F4-FA64-49B9-A815-2168BE65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CCF4D4-BFD6-4822-A525-D7F6DDA6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F535E8-B0A3-489F-B686-AFF436BD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B3131-116C-441F-9967-0348CC49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4C695-9917-4E87-8976-3651AECF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60314-DAFE-4779-A02F-F46CD248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47521-C974-469B-84F9-8E9E3928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FBD1E-E3D6-431E-AE54-2BFD2375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733-D8AD-4FE6-A19E-9CAB7BD5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27FFF-9E61-4767-B460-E89B5ACA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85AA6-78D9-4FD5-95AC-6F3BA682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016E5-F7BE-4D0F-BB86-B11C0F72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5600E-65E7-4101-9988-FD866A24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FB2D0-3761-4E5C-A958-832721FB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E8F22-A587-432E-846B-B31C9C9D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11460-7482-47B8-ADC3-0A0AD5E3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9F88B-6A65-404E-9D98-048EA4D0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0E057-540A-4157-B347-0A12DCFA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E2F8D-2EB5-44CF-85FA-C0A1E3C7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1D17-D31B-4544-AEAF-1A3DA22A556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ABED-DCD3-480D-B30B-DEAB884C86AF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B92E-3B17-430E-9D0F-AEC5ECC6CE0C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3C15-894F-4678-818E-810B9F6D364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285C-E577-44FF-B6BD-B8349B109B9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E719-CAB5-405C-844E-7F980DFE4E6D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7CB0-73BB-44DC-A783-3D304498F874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049A-D060-4CE9-8A0F-846239D2C48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4487-9852-4599-8286-0B8EAA404D7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zapodarkami.kiev.ua/fotos/b/864267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Hydrogen_peroxide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75f55"/>
                </a:solidFill>
                <a:latin typeface="Calibri"/>
              </a:rPr>
              <a:t>Химическая кинетика </a:t>
            </a:r>
            <a:br>
              <a:rPr sz="4000"/>
            </a:br>
            <a:endParaRPr b="0" lang="en-US" sz="4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95" name="Picture 3" descr="U02_15"/>
          <p:cNvPicPr/>
          <p:nvPr/>
        </p:nvPicPr>
        <p:blipFill>
          <a:blip r:embed="rId1"/>
          <a:stretch/>
        </p:blipFill>
        <p:spPr>
          <a:xfrm>
            <a:off x="928800" y="1785960"/>
            <a:ext cx="6929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63280" y="836280"/>
            <a:ext cx="5797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Влияние темп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79440" y="2825640"/>
            <a:ext cx="81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Вант-Гоф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ри нагревании системы на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10 ˚С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скорость реакции возрастает в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2-4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365040" y="3584520"/>
            <a:ext cx="405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емпературный коэффици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нт-Гоф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5" descr="van__t_hoff"/>
          <p:cNvPicPr/>
          <p:nvPr/>
        </p:nvPicPr>
        <p:blipFill>
          <a:blip r:embed="rId1"/>
          <a:stretch/>
        </p:blipFill>
        <p:spPr>
          <a:xfrm>
            <a:off x="6858000" y="476280"/>
            <a:ext cx="2071800" cy="1942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46" name="Text Box 17"/>
          <p:cNvSpPr/>
          <p:nvPr/>
        </p:nvSpPr>
        <p:spPr>
          <a:xfrm>
            <a:off x="6983640" y="2365200"/>
            <a:ext cx="20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Palatino Linotype"/>
              </a:rPr>
              <a:t>Якоб Вант-Гоф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Palatino Linotype"/>
              </a:rPr>
              <a:t>    </a:t>
            </a:r>
            <a:r>
              <a:rPr b="0" lang="ru-RU" sz="1800" spc="-1" strike="noStrike">
                <a:solidFill>
                  <a:srgbClr val="775f55"/>
                </a:solidFill>
                <a:latin typeface="Palatino Linotype"/>
              </a:rPr>
              <a:t>(1852-19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1" descr="Цифровой термометр гигрометр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1571760"/>
            <a:ext cx="2214720" cy="12776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2" descr="градусник"/>
          <p:cNvPicPr/>
          <p:nvPr/>
        </p:nvPicPr>
        <p:blipFill>
          <a:blip r:embed="rId4"/>
          <a:stretch/>
        </p:blipFill>
        <p:spPr>
          <a:xfrm>
            <a:off x="971640" y="33336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2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4857840" y="3714840"/>
                <a:ext cx="3746520" cy="23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p>
                              <m:e>
                                <m:r>
                                  <m:t xml:space="preserve">Δt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51" name="B9-08.avi" descr=""/>
          <p:cNvPicPr/>
          <p:nvPr/>
        </p:nvPicPr>
        <p:blipFill>
          <a:blip r:embed="rId5"/>
          <a:stretch/>
        </p:blipFill>
        <p:spPr>
          <a:xfrm>
            <a:off x="2286000" y="3929040"/>
            <a:ext cx="2357280" cy="121464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12"/>
          <p:cNvSpPr/>
          <p:nvPr/>
        </p:nvSpPr>
        <p:spPr>
          <a:xfrm flipV="1" rot="10800000">
            <a:off x="428400" y="4228200"/>
            <a:ext cx="242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вышении температуры, увеличивается скорость движения частиц, поэтому они чаще сталкиваются, а значит скорость реакции возраст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6" dur="1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Взаимодействие магния с водой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54" name="B9-39.avi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500360" cy="46432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пишите уравнение  реакции взаимодействия магния с водо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g+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=MgO+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1" dur="1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Природа реагирующих веществ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еталлы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групп главных подгрупп взаимодействуют с водой с образованием щёлочи и выделением водорода. Например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Na + 2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 = 2NaOH +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K + 2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 = 2KOH +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 + 2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 = Ca(OH)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Line 4"/>
          <p:cNvSpPr/>
          <p:nvPr/>
        </p:nvSpPr>
        <p:spPr>
          <a:xfrm>
            <a:off x="565164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Природа реагирующих веществ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60" name="B8-32.avi" descr=""/>
          <p:cNvPicPr/>
          <p:nvPr/>
        </p:nvPicPr>
        <p:blipFill>
          <a:blip r:embed="rId1"/>
          <a:stretch/>
        </p:blipFill>
        <p:spPr>
          <a:xfrm>
            <a:off x="250920" y="1714680"/>
            <a:ext cx="4606920" cy="48574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ем активнее вещество, тем скорость реакции с его участием больш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0" dur="1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Площадь соприкосновения реагирующих веществ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рость гетерогенных реакций зависит от площади соприкосновения вещест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терогенные реакции идут только на поверхности раздела реагирующих вещест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рость гетерогенной реакции выражается формул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4"/>
              <p:cNvSpPr txBox="1"/>
              <p:nvPr/>
            </p:nvSpPr>
            <p:spPr>
              <a:xfrm>
                <a:off x="4645080" y="5118120"/>
                <a:ext cx="3934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5" name="Group 5"/>
          <p:cNvGrpSpPr/>
          <p:nvPr/>
        </p:nvGrpSpPr>
        <p:grpSpPr>
          <a:xfrm>
            <a:off x="3360240" y="5000760"/>
            <a:ext cx="1716120" cy="904320"/>
            <a:chOff x="3360240" y="5000760"/>
            <a:chExt cx="1716120" cy="904320"/>
          </a:xfrm>
        </p:grpSpPr>
        <p:grpSp>
          <p:nvGrpSpPr>
            <p:cNvPr id="466" name="Group 6"/>
            <p:cNvGrpSpPr/>
            <p:nvPr/>
          </p:nvGrpSpPr>
          <p:grpSpPr>
            <a:xfrm>
              <a:off x="4298760" y="5000760"/>
              <a:ext cx="777600" cy="904320"/>
              <a:chOff x="4298760" y="5000760"/>
              <a:chExt cx="777600" cy="904320"/>
            </a:xfrm>
          </p:grpSpPr>
          <p:sp>
            <p:nvSpPr>
              <p:cNvPr id="467" name="Text Box 7"/>
              <p:cNvSpPr/>
              <p:nvPr/>
            </p:nvSpPr>
            <p:spPr>
              <a:xfrm>
                <a:off x="4298760" y="5000760"/>
                <a:ext cx="77760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ahoma"/>
                  </a:rPr>
                  <a:t>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∆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1" lang="ru-RU" sz="2000" spc="-1" strike="noStrike" baseline="-25000">
                    <a:solidFill>
                      <a:srgbClr val="000000"/>
                    </a:solidFill>
                    <a:latin typeface="Tahoma"/>
                  </a:rPr>
                  <a:t>*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8"/>
              <p:cNvSpPr/>
              <p:nvPr/>
            </p:nvSpPr>
            <p:spPr>
              <a:xfrm>
                <a:off x="4426920" y="5523120"/>
                <a:ext cx="36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Text Box 9"/>
            <p:cNvSpPr/>
            <p:nvPr/>
          </p:nvSpPr>
          <p:spPr>
            <a:xfrm>
              <a:off x="3360240" y="5237280"/>
              <a:ext cx="110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ahoma"/>
                </a:rPr>
                <a:t>гетерог.</a:t>
              </a: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0"/>
          <p:cNvGrpSpPr/>
          <p:nvPr/>
        </p:nvGrpSpPr>
        <p:grpSpPr>
          <a:xfrm>
            <a:off x="5435640" y="5229360"/>
            <a:ext cx="1387440" cy="822960"/>
            <a:chOff x="5435640" y="5229360"/>
            <a:chExt cx="1387440" cy="822960"/>
          </a:xfrm>
        </p:grpSpPr>
        <p:sp>
          <p:nvSpPr>
            <p:cNvPr id="471" name="Text Box 11"/>
            <p:cNvSpPr/>
            <p:nvPr/>
          </p:nvSpPr>
          <p:spPr>
            <a:xfrm>
              <a:off x="5435640" y="54612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2"/>
            <p:cNvSpPr/>
            <p:nvPr/>
          </p:nvSpPr>
          <p:spPr>
            <a:xfrm>
              <a:off x="5815080" y="5229360"/>
              <a:ext cx="100800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М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м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ru-RU" sz="1800" spc="-1" strike="noStrike" baseline="-25000">
                  <a:solidFill>
                    <a:srgbClr val="000000"/>
                  </a:solidFill>
                  <a:latin typeface="Tahoma"/>
                </a:rPr>
                <a:t>*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5887800" y="566136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14"/>
          <p:cNvSpPr/>
          <p:nvPr/>
        </p:nvSpPr>
        <p:spPr>
          <a:xfrm>
            <a:off x="5580000" y="5084640"/>
            <a:ext cx="5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6443640" y="5084640"/>
            <a:ext cx="5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Скорость гетерогенных реакций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77" name="B8-47.avi" descr=""/>
          <p:cNvPicPr/>
          <p:nvPr/>
        </p:nvPicPr>
        <p:blipFill>
          <a:blip r:embed="rId1"/>
          <a:stretch/>
        </p:blipFill>
        <p:spPr>
          <a:xfrm>
            <a:off x="324000" y="1714680"/>
            <a:ext cx="4533840" cy="46432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ем больше поверхность соприкосновения веществ, тем выше скорость реак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2" dur="1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920" y="620280"/>
            <a:ext cx="30607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Катализ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80" name="Picture 5" descr="Bercel"/>
          <p:cNvPicPr/>
          <p:nvPr/>
        </p:nvPicPr>
        <p:blipFill>
          <a:blip r:embed="rId1"/>
          <a:stretch/>
        </p:blipFill>
        <p:spPr>
          <a:xfrm>
            <a:off x="468360" y="2276640"/>
            <a:ext cx="1146240" cy="12762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7"/>
          <p:cNvSpPr/>
          <p:nvPr/>
        </p:nvSpPr>
        <p:spPr>
          <a:xfrm>
            <a:off x="1657800" y="2565360"/>
            <a:ext cx="25138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енс Якоб Берцел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ел термин «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атализ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35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432360" y="3573360"/>
            <a:ext cx="645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Катализатор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– вещество, изменяющее скорость реак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частвует в промежуточных стадиях реак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о не входит в состав продуктов реа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2176560" y="4737240"/>
            <a:ext cx="446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2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0"/>
          <p:cNvSpPr/>
          <p:nvPr/>
        </p:nvSpPr>
        <p:spPr>
          <a:xfrm>
            <a:off x="2187360" y="5950080"/>
            <a:ext cx="579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Euclid Extra"/>
              </a:rPr>
              <a:t>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2172960" y="5354640"/>
            <a:ext cx="460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Euclid Extra"/>
              </a:rPr>
              <a:t>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2" descr="ostwald"/>
          <p:cNvPicPr/>
          <p:nvPr/>
        </p:nvPicPr>
        <p:blipFill>
          <a:blip r:embed="rId2"/>
          <a:stretch/>
        </p:blipFill>
        <p:spPr>
          <a:xfrm>
            <a:off x="4859280" y="1989000"/>
            <a:ext cx="1219320" cy="164952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4"/>
          <p:cNvSpPr/>
          <p:nvPr/>
        </p:nvSpPr>
        <p:spPr>
          <a:xfrm>
            <a:off x="6076080" y="2435400"/>
            <a:ext cx="2955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льгельм Остваль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09 г. – Нобелевская прем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в признание работ по катализ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5"/>
          <p:cNvSpPr/>
          <p:nvPr/>
        </p:nvSpPr>
        <p:spPr>
          <a:xfrm>
            <a:off x="4859280" y="494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6"/>
          <p:cNvSpPr/>
          <p:nvPr/>
        </p:nvSpPr>
        <p:spPr>
          <a:xfrm>
            <a:off x="4815000" y="50356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Скорость и катализатор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91" name="B8-48.avi" descr=""/>
          <p:cNvPicPr/>
          <p:nvPr/>
        </p:nvPicPr>
        <p:blipFill>
          <a:blip r:embed="rId1"/>
          <a:stretch/>
        </p:blipFill>
        <p:spPr>
          <a:xfrm>
            <a:off x="250920" y="1571760"/>
            <a:ext cx="4464000" cy="46432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648320" y="198108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тализатор увеличивает скорость химической реак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22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11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=12СО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+11Н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6226560" y="37162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7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Механизм каталитических реакций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ля реакции:  А + В = А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9900"/>
                </a:solidFill>
                <a:latin typeface="Calibri"/>
              </a:rPr>
              <a:t>Механиз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тализатор взаимодействует с исходным веществом:  А + К = А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межуточное соединение взаимодействует с другим исходным веществом:  АК + В = АВ + 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уммарное уравнение:  А + В = А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5"/>
          <p:cNvSpPr/>
          <p:nvPr/>
        </p:nvSpPr>
        <p:spPr>
          <a:xfrm>
            <a:off x="282600" y="3213000"/>
            <a:ext cx="1933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7  бе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ерблю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6662520" y="2781360"/>
            <a:ext cx="233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Кай Линдерстрём-Ла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(1896-195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1351080" y="69228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тча о катали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549000" y="422100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1 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блюжо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2647800" y="2205000"/>
            <a:ext cx="816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/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755640" y="5157720"/>
            <a:ext cx="79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1"/>
          <p:cNvSpPr/>
          <p:nvPr/>
        </p:nvSpPr>
        <p:spPr>
          <a:xfrm>
            <a:off x="395280" y="5084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5076000" y="2205000"/>
            <a:ext cx="435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3"/>
          <p:cNvSpPr/>
          <p:nvPr/>
        </p:nvSpPr>
        <p:spPr>
          <a:xfrm>
            <a:off x="3780000" y="2492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4"/>
          <p:cNvSpPr/>
          <p:nvPr/>
        </p:nvSpPr>
        <p:spPr>
          <a:xfrm>
            <a:off x="370836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5"/>
          <p:cNvSpPr/>
          <p:nvPr/>
        </p:nvSpPr>
        <p:spPr>
          <a:xfrm>
            <a:off x="3708360" y="4724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6"/>
          <p:cNvSpPr/>
          <p:nvPr/>
        </p:nvSpPr>
        <p:spPr>
          <a:xfrm>
            <a:off x="4859280" y="5229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7"/>
          <p:cNvSpPr/>
          <p:nvPr/>
        </p:nvSpPr>
        <p:spPr>
          <a:xfrm>
            <a:off x="4932360" y="5300640"/>
            <a:ext cx="79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8"/>
          <p:cNvSpPr/>
          <p:nvPr/>
        </p:nvSpPr>
        <p:spPr>
          <a:xfrm>
            <a:off x="6237000" y="522936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1 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блюжо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19" descr="Линдерстрем-Ланг"/>
          <p:cNvPicPr/>
          <p:nvPr/>
        </p:nvPicPr>
        <p:blipFill>
          <a:blip r:embed="rId1"/>
          <a:stretch/>
        </p:blipFill>
        <p:spPr>
          <a:xfrm>
            <a:off x="7164360" y="1341360"/>
            <a:ext cx="1166760" cy="1366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1" name="Picture 20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19447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8400" y="571680"/>
            <a:ext cx="647676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ddc3"/>
                </a:solidFill>
                <a:latin typeface="Calibri"/>
              </a:rPr>
              <a:t>СКОРОСТЬ ХИМИЧЕСКИХ РЕАКЦИЙ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pic>
        <p:nvPicPr>
          <p:cNvPr id="397" name="Picture 4" descr="Лисёнок1"/>
          <p:cNvPicPr/>
          <p:nvPr/>
        </p:nvPicPr>
        <p:blipFill>
          <a:blip r:embed="rId1"/>
          <a:stretch/>
        </p:blipFill>
        <p:spPr>
          <a:xfrm>
            <a:off x="6429240" y="2500200"/>
            <a:ext cx="2500560" cy="30895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6"/>
          <p:cNvSpPr/>
          <p:nvPr/>
        </p:nvSpPr>
        <p:spPr>
          <a:xfrm>
            <a:off x="539640" y="3000240"/>
            <a:ext cx="518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ddc3"/>
                </a:solidFill>
                <a:latin typeface="Arial"/>
              </a:rPr>
              <a:t>Химическая кинетика</a:t>
            </a:r>
            <a:r>
              <a:rPr b="0" lang="ru-RU" sz="3200" spc="-1" strike="noStrike">
                <a:solidFill>
                  <a:srgbClr val="ebddc3"/>
                </a:solidFill>
                <a:latin typeface="Arial"/>
              </a:rPr>
              <a:t> изучает ско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ddc3"/>
                </a:solidFill>
                <a:latin typeface="Arial"/>
              </a:rPr>
              <a:t>и механизмы химических реа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Calibri"/>
              </a:rPr>
              <a:t>Механизм разложения пероксида водорода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182600" y="2017440"/>
            <a:ext cx="777240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H</a:t>
            </a:r>
            <a:r>
              <a:rPr b="1" lang="en-US" sz="29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O</a:t>
            </a:r>
            <a:r>
              <a:rPr b="1" lang="en-US" sz="29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 = 2H</a:t>
            </a:r>
            <a:r>
              <a:rPr b="1" lang="en-US" sz="29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O + O</a:t>
            </a:r>
            <a:r>
              <a:rPr b="1" lang="en-US" sz="29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(1)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1" lang="en-US" sz="29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900" spc="-1" strike="noStrike" baseline="-25000">
                <a:solidFill>
                  <a:srgbClr val="0000cc"/>
                </a:solidFill>
                <a:latin typeface="Times New Roman"/>
              </a:rPr>
              <a:t>2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</a:rPr>
              <a:t>= H</a:t>
            </a:r>
            <a:r>
              <a:rPr b="1" lang="en-US" sz="29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</a:rPr>
              <a:t> + HO</a:t>
            </a:r>
            <a:r>
              <a:rPr b="1" lang="en-US" sz="29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900" spc="-1" strike="noStrike" baseline="30000">
                <a:solidFill>
                  <a:srgbClr val="0000cc"/>
                </a:solidFill>
                <a:latin typeface="Times New Roman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(2)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HO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 baseline="30000">
                <a:solidFill>
                  <a:srgbClr val="ff0066"/>
                </a:solidFill>
                <a:latin typeface="Times New Roman"/>
              </a:rPr>
              <a:t>-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 + H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 = H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O + O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 + OH</a:t>
            </a:r>
            <a:r>
              <a:rPr b="1" lang="en-US" sz="2900" spc="-1" strike="noStrike" baseline="30000">
                <a:solidFill>
                  <a:srgbClr val="ff0066"/>
                </a:solidFill>
                <a:latin typeface="Times New Roman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(3)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336600"/>
                </a:solidFill>
                <a:latin typeface="Times New Roman"/>
              </a:rPr>
              <a:t>OH</a:t>
            </a:r>
            <a:r>
              <a:rPr b="1" lang="en-US" sz="2900" spc="-1" strike="noStrike" baseline="30000">
                <a:solidFill>
                  <a:srgbClr val="336600"/>
                </a:solidFill>
                <a:latin typeface="Times New Roman"/>
              </a:rPr>
              <a:t>-</a:t>
            </a:r>
            <a:r>
              <a:rPr b="1" lang="en-US" sz="2900" spc="-1" strike="noStrike">
                <a:solidFill>
                  <a:srgbClr val="336600"/>
                </a:solidFill>
                <a:latin typeface="Times New Roman"/>
              </a:rPr>
              <a:t> + H</a:t>
            </a:r>
            <a:r>
              <a:rPr b="1" lang="en-US" sz="2900" spc="-1" strike="noStrike" baseline="30000">
                <a:solidFill>
                  <a:srgbClr val="336600"/>
                </a:solidFill>
                <a:latin typeface="Times New Roman"/>
              </a:rPr>
              <a:t>+</a:t>
            </a:r>
            <a:r>
              <a:rPr b="1" lang="en-US" sz="2900" spc="-1" strike="noStrike">
                <a:solidFill>
                  <a:srgbClr val="336600"/>
                </a:solidFill>
                <a:latin typeface="Times New Roman"/>
              </a:rPr>
              <a:t> = H</a:t>
            </a:r>
            <a:r>
              <a:rPr b="1" lang="en-US" sz="2900" spc="-1" strike="noStrike" baseline="-25000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336600"/>
                </a:solidFill>
                <a:latin typeface="Times New Roman"/>
              </a:rPr>
              <a:t>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3274560" y="5300640"/>
            <a:ext cx="53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7b615"/>
                </a:solidFill>
                <a:uFillTx/>
                <a:latin typeface="Times New Roman"/>
              </a:rPr>
              <a:t>Посмотрите опыт «Разложение пероксида водор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3 % раствор перекиси водород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620640"/>
            <a:ext cx="1517760" cy="244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per"/>
          <p:cNvPicPr/>
          <p:nvPr/>
        </p:nvPicPr>
        <p:blipFill>
          <a:blip r:embed="rId3"/>
          <a:stretch/>
        </p:blipFill>
        <p:spPr>
          <a:xfrm>
            <a:off x="755640" y="5084640"/>
            <a:ext cx="1238400" cy="838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75f55"/>
                </a:solidFill>
                <a:latin typeface="Calibri"/>
              </a:rPr>
              <a:t>Разложение 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H</a:t>
            </a:r>
            <a:r>
              <a:rPr b="0" lang="en-US" sz="3300" spc="-1" strike="noStrike" baseline="-25000">
                <a:solidFill>
                  <a:srgbClr val="775f55"/>
                </a:solidFill>
                <a:latin typeface="Tw Cen MT"/>
              </a:rPr>
              <a:t>2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O</a:t>
            </a:r>
            <a:r>
              <a:rPr b="0" lang="en-US" sz="3300" spc="-1" strike="noStrike" baseline="-25000">
                <a:solidFill>
                  <a:srgbClr val="775f55"/>
                </a:solidFill>
                <a:latin typeface="Tw Cen MT"/>
              </a:rPr>
              <a:t>2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ru-RU" sz="3300" spc="-1" strike="noStrike">
                <a:solidFill>
                  <a:srgbClr val="775f55"/>
                </a:solidFill>
                <a:latin typeface="Calibri"/>
              </a:rPr>
              <a:t>в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ru-RU" sz="3300" spc="-1" strike="noStrike">
                <a:solidFill>
                  <a:srgbClr val="775f55"/>
                </a:solidFill>
                <a:latin typeface="Calibri"/>
              </a:rPr>
              <a:t>присутствии 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Fe</a:t>
            </a:r>
            <a:r>
              <a:rPr b="0" lang="en-US" sz="3300" spc="-1" strike="noStrike" baseline="30000">
                <a:solidFill>
                  <a:srgbClr val="775f55"/>
                </a:solidFill>
                <a:latin typeface="Tw Cen MT"/>
              </a:rPr>
              <a:t>3+</a:t>
            </a:r>
            <a:endParaRPr b="0" lang="en-US" sz="33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OH + O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H +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5651640" y="357840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619280" y="414972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5867280" y="2360520"/>
            <a:ext cx="2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1913040" y="297972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5651640" y="413856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3203640" y="473544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372960" y="6235560"/>
            <a:ext cx="396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7b615"/>
                </a:solidFill>
                <a:uFillTx/>
                <a:latin typeface="Times New Roman"/>
              </a:rPr>
              <a:t>Сравните с механизмом без участия катализат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0"/>
                            </p:stCondLst>
                            <p:childTnLst>
                              <p:par>
                                <p:cTn id="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28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28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280"/>
                            </p:stCondLst>
                            <p:childTnLst>
                              <p:par>
                                <p:cTn id="4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28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28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40"/>
                            </p:stCondLst>
                            <p:childTnLst>
                              <p:par>
                                <p:cTn id="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Терминолог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Катализ, катализато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Ингибито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Промотор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Каталитические яд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Гомогенный и гетерогенный катализ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Фермент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Особенности ферментативного катализ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сокая избирательность и специфичность катализато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Жесткие требования к условиям протекания реакци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725040" y="4437000"/>
            <a:ext cx="3123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лассификация фер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сиредукт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фер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дрол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мер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газы (синтетаз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FG15_18a_c"/>
          <p:cNvPicPr/>
          <p:nvPr/>
        </p:nvPicPr>
        <p:blipFill>
          <a:blip r:embed="rId1"/>
          <a:stretch/>
        </p:blipFill>
        <p:spPr>
          <a:xfrm>
            <a:off x="3995640" y="4365720"/>
            <a:ext cx="475308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0000"/>
                </a:solidFill>
                <a:latin typeface="Calibri"/>
              </a:rPr>
              <a:t>Влияние катализатора на путь химической реакции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539640" y="2060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539640" y="2924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539640" y="3716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539640" y="4508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539640" y="5300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8"/>
              <p:cNvSpPr txBox="1"/>
              <p:nvPr/>
            </p:nvSpPr>
            <p:spPr>
              <a:xfrm>
                <a:off x="1116000" y="2008080"/>
                <a:ext cx="6480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9"/>
              <p:cNvSpPr txBox="1"/>
              <p:nvPr/>
            </p:nvSpPr>
            <p:spPr>
              <a:xfrm>
                <a:off x="1116000" y="2873520"/>
                <a:ext cx="496872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10"/>
              <p:cNvSpPr txBox="1"/>
              <p:nvPr/>
            </p:nvSpPr>
            <p:spPr>
              <a:xfrm>
                <a:off x="1116000" y="3645000"/>
                <a:ext cx="5761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H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11"/>
              <p:cNvSpPr txBox="1"/>
              <p:nvPr/>
            </p:nvSpPr>
            <p:spPr>
              <a:xfrm>
                <a:off x="1116000" y="4457880"/>
                <a:ext cx="6624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−</m:t>
                    </m:r>
                    <m:r>
                      <m:t xml:space="preserve">O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12"/>
              <p:cNvSpPr txBox="1"/>
              <p:nvPr/>
            </p:nvSpPr>
            <p:spPr>
              <a:xfrm>
                <a:off x="1116000" y="5248440"/>
                <a:ext cx="7704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3" name="Text Box 13"/>
          <p:cNvSpPr/>
          <p:nvPr/>
        </p:nvSpPr>
        <p:spPr>
          <a:xfrm>
            <a:off x="4716360" y="566100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утадиен-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4716360" y="486900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тилаце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4356000" y="407664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ацетальдег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4427640" y="3284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т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7"/>
          <p:cNvSpPr/>
          <p:nvPr/>
        </p:nvSpPr>
        <p:spPr>
          <a:xfrm>
            <a:off x="4716360" y="2492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иэтиловый эф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Условия протекания химических реа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187280" y="1981080"/>
            <a:ext cx="7499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94b6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94b6d2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прикосновение реагирующих веще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94b6d2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гре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94b6d2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катализ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alibri"/>
              </a:rPr>
              <a:t>Сущность химических реакций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ность химических реакций сводится к разрыву связей в исходных веществах и возникновению новых связей в продуктах реа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е число атомов каждого химического элемента до и после реакции остаётся постоян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ние связей происходит с выделением энергии, а разрыв связей – с поглощением энерг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5f55"/>
                </a:solidFill>
                <a:latin typeface="Calibri"/>
              </a:rPr>
              <a:t>Скорость химических реакций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755640" y="3730680"/>
                <a:ext cx="11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c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5535720" y="2602080"/>
                <a:ext cx="295272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,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моль</m:t>
                        </m:r>
                      </m:num>
                      <m:den>
                        <m:r>
                          <m:t xml:space="preserve">л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6" name="Text Box 6"/>
          <p:cNvSpPr/>
          <p:nvPr/>
        </p:nvSpPr>
        <p:spPr>
          <a:xfrm>
            <a:off x="2189160" y="3933720"/>
            <a:ext cx="28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гомогенных сист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1626480" y="198900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A  +  B  =  D  + 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916920" y="2421000"/>
            <a:ext cx="1443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2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ь/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861840" y="2781360"/>
            <a:ext cx="161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,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ь/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5508720" y="3357720"/>
                <a:ext cx="33494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,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моль</m:t>
                        </m:r>
                      </m:num>
                      <m:den>
                        <m:r>
                          <m:t xml:space="preserve">л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1" name="Text Box 11"/>
          <p:cNvSpPr/>
          <p:nvPr/>
        </p:nvSpPr>
        <p:spPr>
          <a:xfrm>
            <a:off x="2585160" y="256536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4"/>
              <p:cNvSpPr txBox="1"/>
              <p:nvPr/>
            </p:nvSpPr>
            <p:spPr>
              <a:xfrm>
                <a:off x="523800" y="4851360"/>
                <a:ext cx="16876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ν</m:t>
                        </m:r>
                      </m:num>
                      <m:den>
                        <m:r>
                          <m:t xml:space="preserve">S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3" name="Text Box 15"/>
          <p:cNvSpPr/>
          <p:nvPr/>
        </p:nvSpPr>
        <p:spPr>
          <a:xfrm>
            <a:off x="2263680" y="521172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гетерогенных сист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cc0000"/>
                </a:solidFill>
                <a:latin typeface="Calibri"/>
              </a:rPr>
              <a:t>Изменение концентрации реагирующего вещества во времени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1239840" y="6324480"/>
            <a:ext cx="5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611280" y="1484280"/>
            <a:ext cx="7199640" cy="5101200"/>
            <a:chOff x="611280" y="1484280"/>
            <a:chExt cx="7199640" cy="5101200"/>
          </a:xfrm>
        </p:grpSpPr>
        <p:grpSp>
          <p:nvGrpSpPr>
            <p:cNvPr id="417" name="Group 5"/>
            <p:cNvGrpSpPr/>
            <p:nvPr/>
          </p:nvGrpSpPr>
          <p:grpSpPr>
            <a:xfrm>
              <a:off x="611280" y="1484280"/>
              <a:ext cx="7199640" cy="5101200"/>
              <a:chOff x="611280" y="1484280"/>
              <a:chExt cx="7199640" cy="5101200"/>
            </a:xfrm>
          </p:grpSpPr>
          <p:graphicFrame>
            <p:nvGraphicFramePr>
              <p:cNvPr id="418" name="Object 6"/>
              <p:cNvGraphicFramePr/>
              <p:nvPr/>
            </p:nvGraphicFramePr>
            <p:xfrm>
              <a:off x="1355400" y="1484280"/>
              <a:ext cx="6455520" cy="45619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19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55400" y="1484280"/>
                        <a:ext cx="6455520" cy="456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0" name="Text Box 7"/>
              <p:cNvSpPr/>
              <p:nvPr/>
            </p:nvSpPr>
            <p:spPr>
              <a:xfrm>
                <a:off x="1851840" y="1990800"/>
                <a:ext cx="18432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1275840" y="190512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ahoma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960960" y="6064560"/>
                <a:ext cx="18432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 rot="16200000">
                <a:off x="-429480" y="3961800"/>
                <a:ext cx="24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ahoma"/>
                  </a:rPr>
                  <a:t>Концентрац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5742360" y="6217200"/>
                <a:ext cx="157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ahoma"/>
                  </a:rPr>
                  <a:t>Врем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1189800" y="3427560"/>
                <a:ext cx="401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1189080" y="4525200"/>
                <a:ext cx="478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2017800" y="5710680"/>
                <a:ext cx="435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2928600" y="5710680"/>
                <a:ext cx="810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AutoShape 16"/>
            <p:cNvSpPr/>
            <p:nvPr/>
          </p:nvSpPr>
          <p:spPr>
            <a:xfrm>
              <a:off x="1685880" y="3767040"/>
              <a:ext cx="173160" cy="1013760"/>
            </a:xfrm>
            <a:custGeom>
              <a:avLst/>
              <a:gdLst>
                <a:gd name="textAreaLeft" fmla="*/ 0 w 173160"/>
                <a:gd name="textAreaRight" fmla="*/ 62640 w 173160"/>
                <a:gd name="textAreaTop" fmla="*/ 26280 h 1013760"/>
                <a:gd name="textAreaBottom" fmla="*/ 987480 h 101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7"/>
            <p:cNvSpPr/>
            <p:nvPr/>
          </p:nvSpPr>
          <p:spPr>
            <a:xfrm rot="16200000">
              <a:off x="2579040" y="5232240"/>
              <a:ext cx="95040" cy="884880"/>
            </a:xfrm>
            <a:custGeom>
              <a:avLst/>
              <a:gdLst>
                <a:gd name="textAreaLeft" fmla="*/ 0 w 95040"/>
                <a:gd name="textAreaRight" fmla="*/ 34200 w 95040"/>
                <a:gd name="textAreaTop" fmla="*/ 23040 h 884880"/>
                <a:gd name="textAreaBottom" fmla="*/ 861840 h 8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663"/>
                  </a:lnTo>
                  <a:cubicBezTo>
                    <a:pt x="10800" y="9563"/>
                    <a:pt x="16200" y="10463"/>
                    <a:pt x="21600" y="10463"/>
                  </a:cubicBezTo>
                  <a:cubicBezTo>
                    <a:pt x="16200" y="10463"/>
                    <a:pt x="10800" y="11363"/>
                    <a:pt x="10800" y="1226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8"/>
            <p:cNvSpPr/>
            <p:nvPr/>
          </p:nvSpPr>
          <p:spPr>
            <a:xfrm>
              <a:off x="5548320" y="32770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∆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∆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19"/>
            <p:cNvSpPr/>
            <p:nvPr/>
          </p:nvSpPr>
          <p:spPr>
            <a:xfrm>
              <a:off x="4780080" y="342792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20"/>
            <p:cNvSpPr/>
            <p:nvPr/>
          </p:nvSpPr>
          <p:spPr>
            <a:xfrm>
              <a:off x="1763640" y="41043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∆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21"/>
            <p:cNvSpPr/>
            <p:nvPr/>
          </p:nvSpPr>
          <p:spPr>
            <a:xfrm>
              <a:off x="2341080" y="5287680"/>
              <a:ext cx="41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∆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Факторы, влияющие на скорость реакции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нцентрация реагирующих вещест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емператур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рода реагирующих вещест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лощадь соприкосновения реагирующих вещест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тализатор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Концентрация реагирующих веществ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9900"/>
                </a:solidFill>
                <a:latin typeface="Calibri"/>
              </a:rPr>
              <a:t>Закон действующих масс</a:t>
            </a:r>
            <a:r>
              <a:rPr b="0" lang="en-US" sz="2900" spc="-1" strike="noStrike">
                <a:solidFill>
                  <a:srgbClr val="009900"/>
                </a:solidFill>
                <a:latin typeface="Tw Cen MT"/>
              </a:rPr>
              <a:t> (</a:t>
            </a:r>
            <a:r>
              <a:rPr b="0" lang="ru-RU" sz="2900" spc="-1" strike="noStrike">
                <a:solidFill>
                  <a:srgbClr val="009900"/>
                </a:solidFill>
                <a:latin typeface="Calibri"/>
              </a:rPr>
              <a:t>ЗДМ</a:t>
            </a:r>
            <a:r>
              <a:rPr b="0" lang="en-US" sz="2900" spc="-1" strike="noStrike">
                <a:solidFill>
                  <a:srgbClr val="009900"/>
                </a:solidFill>
                <a:latin typeface="Tw Cen MT"/>
              </a:rPr>
              <a:t>) </a:t>
            </a:r>
            <a:r>
              <a:rPr b="0" lang="ru-RU" sz="2900" spc="-1" strike="noStrike">
                <a:solidFill>
                  <a:srgbClr val="009900"/>
                </a:solidFill>
                <a:latin typeface="Calibri"/>
              </a:rPr>
              <a:t>: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скорость химической реакции пропорциональна произведению концентраций реагирующих вещест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ля реакции: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+  nB  =  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ДМ:  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v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=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٠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m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B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константа скорости реак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ри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1 моль/л и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А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  <a:cs typeface="Arial"/>
              </a:rPr>
              <a:t>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1 моль/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зависит от природы реагирующих веществ и от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w Cen MT"/>
              </a:rPr>
              <a:t>C</a:t>
            </a:r>
            <a:r>
              <a:rPr b="0" lang="ru-RU" sz="4400" spc="-1" strike="noStrike">
                <a:solidFill>
                  <a:srgbClr val="cc0000"/>
                </a:solidFill>
                <a:latin typeface="Calibri"/>
              </a:rPr>
              <a:t>корость и концентрац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40" name="B8-46.avi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4500360" cy="45626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ем больше концентрация реагирующих веществ, тем чаще сталкиваются частицы веществ, а значит скорость реакции увеличиваетс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5:59:04Z</dcterms:created>
  <dc:creator>zzzz</dc:creator>
  <dc:description/>
  <dc:language>en-US</dc:language>
  <cp:lastModifiedBy>Admin</cp:lastModifiedBy>
  <dcterms:modified xsi:type="dcterms:W3CDTF">2012-12-18T05:24:51Z</dcterms:modified>
  <cp:revision>8</cp:revision>
  <dc:subject/>
  <dc:title>Химическая кинетика  и катализ</dc:title>
</cp:coreProperties>
</file>